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6D7-695E-4878-9912-F9585C1B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542-01A1-4F0B-9BCF-08B4FC2E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9B5-2CD8-436C-8F1C-20A8E563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5BC-33D8-45A6-9C35-D76A89EB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728D-7489-41B5-A746-7C0DC67A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B51C-AEE6-4101-A4E4-2FF63651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82B3-B7AF-4E79-87E0-46F04286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502F-5AAC-4BD3-9705-A5126813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F2B9-4425-4692-8EA0-3C40B78E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CD7B-AA20-4263-B95C-EE4D0063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4679-0C8B-430C-9272-3026398C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ACE-6E1D-4F8C-9309-AA672BD5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9135-E987-4DFE-978D-1BC8996C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B413-23A6-436E-B56E-7BC81166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F3B2-4A5B-4B98-A2B6-E31F2008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DECF-7D55-4091-8160-28F67ED4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E30C-2291-43BC-8966-CD8553F7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55D-376E-4CE2-9709-77C7C86D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DD1-F79B-4781-9FDD-05E46225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B731-60CF-4D05-89F3-22C3ED3D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EC4-0E86-42D9-AC53-AF6E47D3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5DD-C0EF-406D-8B15-C063A4B8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31B6-4280-4233-8B7F-8D4C7FFD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5F2-F5E9-4A12-9236-8AFB305E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1D98-3569-452E-9E14-C8E686EB2C0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09C0-B894-4FCF-94CC-747B5566194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The Fluent Reader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Tim Rasinski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hapter 8:  Assessmen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hapter 8 describes various assessments that might be used to track fluency development.  In Reading First, we have a well-developed assessment system already in place. Given that, we will not be reading this chapter toda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Preview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ere are the main ideas from the chapters we will be reading and discussing toda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hat do you already know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hat are you most interested in learning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Chapter 1:  Overview of Oral Reading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can we improve our instruction to promote fluency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ationale for oral read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read-alouds benefit stud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ays to build fluenc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hy should we discontinue round robin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hapter 2: Teacher read aloud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can we use teacher read-alouds to promote fluency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enefits of teacher read-alou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eparing for read-alou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sponding to read-alou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hapter 3:  Supported Read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can we move from modeling to independent reading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ffective forms of supportive read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ips for choosing tex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rms and procedures for supported read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hapter 4: Repeated Read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can we integrate various forms of repeated reading into our curriculum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enefits of repeated read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Guidelines for repeated read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pecific repeated reading strateg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hapter 5: Performance Read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can we effectively design and manage various types of oral reading performanc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udent-led strategi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ypes of performan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sources for teach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hapter 6:  Creating Synergy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can we integrate oral reading strategies to foster fluency development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peated Reading While Listeni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ral Recitation Lesson (ORL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luency Development Lesson (FDL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hrased Text Less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Chapter 7: Oral Reading in and across the Curriculum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ow can we integrate these fluency strategies into other parts of the curriculum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aily oral reading rout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rategies for involving and connecting with paren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9:51:45Z</dcterms:created>
  <dc:creator>GADOE</dc:creator>
  <dc:description/>
  <dc:language>en-US</dc:language>
  <cp:lastModifiedBy>Kenneth Page</cp:lastModifiedBy>
  <dcterms:modified xsi:type="dcterms:W3CDTF">2011-12-08T07:42:57Z</dcterms:modified>
  <cp:revision>10</cp:revision>
  <dc:subject/>
  <dc:title>Oral Reading in and Across the Curriculum Chapter 7</dc:title>
</cp:coreProperties>
</file>